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B8CD-A635-4EE6-8972-2BEF2E568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40B6-C8F2-4B1B-9958-054D9A089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D9608-16D1-458C-9189-BF352B1E08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0A1D-C03E-4575-BCCA-7DE4FCA5D0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675-4DF2-452B-9B63-66FB116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A5A-DE5D-407E-9B2C-9F13CCB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8FC-0D1A-4C37-BA31-71D5B824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81A-7FDC-4326-97C0-4BFCC47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4A2-9E5C-4F0C-9817-CCFC005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10C-17AC-4072-8DC3-C1DEC98A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CCF-BEAB-4815-88F0-458CA0A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784-2C2D-488D-BCCB-EF3D692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244-D0B9-4733-BDEF-4C801FA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D68-6F48-4BAF-AFC4-4B78620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371-5BB3-441F-91F3-C25C835E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5CB-17B3-4CAF-BF8E-C06189E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598FD-CDCC-4898-BBA6-928BE026274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6D867-DEE5-43A4-8B7D-A3498D1F9F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gypt.jpg"/>
          <p:cNvPicPr/>
          <p:nvPr/>
        </p:nvPicPr>
        <p:blipFill>
          <a:blip r:embed="rId1"/>
          <a:stretch/>
        </p:blipFill>
        <p:spPr>
          <a:xfrm>
            <a:off x="165240" y="219240"/>
            <a:ext cx="8769240" cy="641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Jonathan, Ryan, Jack, Arden, and last but not least, Gabb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1689120" y="2036880"/>
            <a:ext cx="5765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8" descr="ancient-egypt-cloth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532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280" y="2496600"/>
            <a:ext cx="590724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hard wor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peace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majority peasants near the N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8" descr="amenhotep"/>
          <p:cNvPicPr/>
          <p:nvPr/>
        </p:nvPicPr>
        <p:blipFill>
          <a:blip r:embed="rId1"/>
          <a:stretch/>
        </p:blipFill>
        <p:spPr>
          <a:xfrm>
            <a:off x="2154240" y="0"/>
            <a:ext cx="5286240" cy="7155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Extra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Lead by pharaohs(God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riests were right h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Nome:Region. Each region had its own govern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haraoh"/>
          <p:cNvPicPr/>
          <p:nvPr/>
        </p:nvPicPr>
        <p:blipFill>
          <a:blip r:embed="rId1"/>
          <a:stretch/>
        </p:blipFill>
        <p:spPr>
          <a:xfrm>
            <a:off x="2349360" y="0"/>
            <a:ext cx="4445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harao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 pharaoh was the leader of the empi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Half-God , Half-hum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Infinite power over citiz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ver the time period of three thousand years over 170 pharaohs have lead Egy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Tax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9400" y="1600200"/>
            <a:ext cx="56833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aid in goods and lab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ne person per family h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o work in labor to pay for tax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axed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1203003686180px-pharaoh"/>
          <p:cNvPicPr/>
          <p:nvPr/>
        </p:nvPicPr>
        <p:blipFill>
          <a:blip r:embed="rId1"/>
          <a:stretch/>
        </p:blipFill>
        <p:spPr>
          <a:xfrm>
            <a:off x="7531200" y="3719520"/>
            <a:ext cx="1612800" cy="313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203003686180px-pharaoh"/>
          <p:cNvPicPr/>
          <p:nvPr/>
        </p:nvPicPr>
        <p:blipFill>
          <a:blip r:embed="rId2"/>
          <a:stretch/>
        </p:blipFill>
        <p:spPr>
          <a:xfrm>
            <a:off x="0" y="3719520"/>
            <a:ext cx="1612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akhenatenhat"/>
          <p:cNvPicPr/>
          <p:nvPr/>
        </p:nvPicPr>
        <p:blipFill>
          <a:blip r:embed="rId1"/>
          <a:stretch/>
        </p:blipFill>
        <p:spPr>
          <a:xfrm>
            <a:off x="2603520" y="436680"/>
            <a:ext cx="3936960" cy="598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La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1768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haraoh enforced la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breaking laws = harsh punishment, disgrace over person and fami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100 beats with c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ive bleeding cu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branding, exile, mutilation drowning, beheading burning alive: Wor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worst crime was tomb raiding because things inside tomb were sac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ages"/>
          <p:cNvPicPr/>
          <p:nvPr/>
        </p:nvPicPr>
        <p:blipFill>
          <a:blip r:embed="rId1"/>
          <a:stretch/>
        </p:blipFill>
        <p:spPr>
          <a:xfrm>
            <a:off x="457200" y="547560"/>
            <a:ext cx="8229600" cy="5864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334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irst police organization around 3000 b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mpire was divided into 42 reg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ach region had a police officer for security and Just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ancient-egypt-online.com/ancient-egypt-government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library.thinkquest.org/3011/egypt3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egyptian_pyramids___cairo_egypt_africa-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Not many boys and girls were educ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Kids educated came from rich fami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cribal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Kids went to school so that one day they could be a famous pharaoh, wealthy scribe or enter the royal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f you didn’t want to be a scribe but you attended scribal school you would become and apprentice (doctor, baker, etc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chool suppli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ed brus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nk (soot and wate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aper papyr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34960" y="717480"/>
            <a:ext cx="58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s_Pyramids_at_Sunset_1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Written language began in the northeast corner of Africa 5000 years ago along the Nile riv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Used pictures to represent words (hieroglyphics or ideogram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ancient Egyptians used hieroglyphs for more than 3500 year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last hieroglyphs text was written 1600 years ag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Afterwards, they used the Greek alphabet with some extra letters added to represent Egyptian sounds (Copti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Coptic was eventually replaced by Arabic, which is spoken in Egypt tod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ancient Egyptian language died out and was forgotte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Since then, no one had any idea what it represented, so they made up their own translati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rom 6000 to 2000 BC, was mostly placed in Cairo and along the Nile Ri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gypt was split into two kingdoms such as the upper kingdom and lower kingd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 went up and down the Nile River 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re are many pyramid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in Egypt where pharaohs a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are buried or mummifi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Where is Egypt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mao of ancient egpyt (past).jpg"/>
          <p:cNvPicPr/>
          <p:nvPr/>
        </p:nvPicPr>
        <p:blipFill>
          <a:blip r:embed="rId1"/>
          <a:stretch/>
        </p:blipFill>
        <p:spPr>
          <a:xfrm>
            <a:off x="5959440" y="4003560"/>
            <a:ext cx="22813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ystic_JourneyX_PyramidsH_GizaE_Egypt.jpg"/>
          <p:cNvPicPr/>
          <p:nvPr/>
        </p:nvPicPr>
        <p:blipFill>
          <a:blip r:embed="rId1"/>
          <a:stretch/>
        </p:blipFill>
        <p:spPr>
          <a:xfrm>
            <a:off x="228600" y="274680"/>
            <a:ext cx="8696160" cy="634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Obelis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yram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Mumm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Hieroglyph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apyr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Geometr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Rectangle 5" descr=""/>
          <p:cNvPicPr/>
          <p:nvPr/>
        </p:nvPicPr>
        <p:blipFill>
          <a:blip r:embed="rId2"/>
          <a:stretch/>
        </p:blipFill>
        <p:spPr>
          <a:xfrm>
            <a:off x="1725480" y="669960"/>
            <a:ext cx="5693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yramids"/>
          <p:cNvPicPr/>
          <p:nvPr/>
        </p:nvPicPr>
        <p:blipFill>
          <a:blip r:embed="rId1"/>
          <a:stretch/>
        </p:blipFill>
        <p:spPr>
          <a:xfrm>
            <a:off x="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143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Ancient economics included farming, trading, and edu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There were also many jobs such as government officials, soldiers, scribes, doctors, merchants, dancers, fishermen, hunters, bakers, carpenters, coffin-makers, spinners, weavers, jewelers, pyramid builders, Egyptian artists, and farmer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They paid in Deben’s instead of co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Deben's are 0.5 ounces of copp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Ancient Economic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143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d in countries all around the Mediterranean Sea, Red Sea and the Aegean S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d: silver, iron, cedar logs, horses, ivory, copper, cattle, leopard skins, and sp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 main products brought from Egypt was wheat, barley, and papyrus she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Sailors on trading ships we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aid in gra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Trad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Jack Stoddart\Pictures\ancient egypt presetation.jpg"/>
          <p:cNvPicPr/>
          <p:nvPr/>
        </p:nvPicPr>
        <p:blipFill>
          <a:blip r:embed="rId1"/>
          <a:stretch/>
        </p:blipFill>
        <p:spPr>
          <a:xfrm>
            <a:off x="5952960" y="4556160"/>
            <a:ext cx="27338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540160" y="0"/>
            <a:ext cx="353052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6070680" y="0"/>
            <a:ext cx="3073320" cy="2540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0" y="27241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ron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540160" y="272412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agger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454800" y="272412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edar Log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0" y="3186000"/>
            <a:ext cx="360684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5"/>
          <a:stretch/>
        </p:blipFill>
        <p:spPr>
          <a:xfrm>
            <a:off x="3606840" y="3186000"/>
            <a:ext cx="3085920" cy="22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6"/>
          <a:stretch/>
        </p:blipFill>
        <p:spPr>
          <a:xfrm>
            <a:off x="6692760" y="3186000"/>
            <a:ext cx="2324160" cy="2247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382680" y="54338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Leopard Skin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4400640" y="543384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pice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7010280" y="54338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apyru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6880" y="445680"/>
            <a:ext cx="765324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Ancient Trading Shi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57240" y="1481040"/>
            <a:ext cx="7375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riverschool.org/students/work/culture.e.econ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en.wikipedia.org/wiki/Ancient_Egy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Bibliograp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ask-of-king-tut.jpg"/>
          <p:cNvPicPr/>
          <p:nvPr/>
        </p:nvPicPr>
        <p:blipFill>
          <a:blip r:embed="rId1"/>
          <a:stretch/>
        </p:blipFill>
        <p:spPr>
          <a:xfrm>
            <a:off x="210960" y="274680"/>
            <a:ext cx="8696520" cy="630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Lengthy two step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nubis would watch over them as they embalmed the corp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Materials Used: Gold, carnelian, lapis lazuli, turquoise, and other semi-precious ston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Good luck char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548080" y="669960"/>
            <a:ext cx="4224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27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Egyptians were polytheistic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ome main gods are: Ra (the sun god), Osiris (the god of the dead), Isis (the god of magic), Anubis (the god of embalming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 god for most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640400" y="4079880"/>
            <a:ext cx="2036520" cy="254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384280" y="4079880"/>
            <a:ext cx="1982880" cy="254016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3346560" y="341280"/>
            <a:ext cx="2450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Unknown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ligion – Nile Floods (I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ngering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leasing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ligion – Pharao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V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haraohs manipulate peo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Flooding predictions -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Use RELIGION to concrete their re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3346560" y="669960"/>
            <a:ext cx="2450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8" descr="WD-10722B"/>
          <p:cNvPicPr/>
          <p:nvPr/>
        </p:nvPicPr>
        <p:blipFill>
          <a:blip r:embed="rId1"/>
          <a:stretch/>
        </p:blipFill>
        <p:spPr>
          <a:xfrm>
            <a:off x="279360" y="274680"/>
            <a:ext cx="8596440" cy="6226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Egyptian A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65480" y="1600200"/>
            <a:ext cx="592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Hieroglyp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normous Temples and Pyram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Gold plate materials (jewel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Stat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belis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443640" y="3745080"/>
            <a:ext cx="2270160" cy="20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71600" cy="181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2271600" y="0"/>
            <a:ext cx="2170080" cy="18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4441680" y="0"/>
            <a:ext cx="2251080" cy="181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0" y="1817640"/>
            <a:ext cx="1839960" cy="192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6443640" y="1817640"/>
            <a:ext cx="2700360" cy="191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7"/>
          <a:stretch/>
        </p:blipFill>
        <p:spPr>
          <a:xfrm>
            <a:off x="357120" y="3745080"/>
            <a:ext cx="2271960" cy="203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8"/>
          <a:stretch/>
        </p:blipFill>
        <p:spPr>
          <a:xfrm>
            <a:off x="6692760" y="0"/>
            <a:ext cx="2451240" cy="181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9"/>
          <a:stretch/>
        </p:blipFill>
        <p:spPr>
          <a:xfrm>
            <a:off x="1839960" y="1817640"/>
            <a:ext cx="2125440" cy="191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10"/>
          <a:stretch/>
        </p:blipFill>
        <p:spPr>
          <a:xfrm>
            <a:off x="3965400" y="1817640"/>
            <a:ext cx="2478240" cy="191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1"/>
          <a:stretch/>
        </p:blipFill>
        <p:spPr>
          <a:xfrm>
            <a:off x="3238560" y="3735360"/>
            <a:ext cx="2405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historylink101.net/egypt_1/religion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Egyptian Government and la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7:36:57Z</dcterms:created>
  <dc:creator>IT User</dc:creator>
  <dc:description/>
  <dc:language>en-US</dc:language>
  <cp:lastModifiedBy>IT User</cp:lastModifiedBy>
  <dcterms:modified xsi:type="dcterms:W3CDTF">2010-10-06T11:07:40Z</dcterms:modified>
  <cp:revision>17</cp:revision>
  <dc:subject/>
  <dc:title>Ancient Egypt</dc:title>
</cp:coreProperties>
</file>